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380-ACA3-43B7-980E-772C9D1DFF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F2D-C672-4B93-BCE6-CC199CFCE488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4801C53-58C9-4368-B969-7B4E160420F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8ACB04B-80A4-47FC-9EC1-EC2D7061B4C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993600" y="754200"/>
            <a:ext cx="48088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C251-9A71-4703-A640-3134712FDC75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15BD5462-56CB-4418-AD1C-F7F368E0C82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3AC94A8D-680F-4393-A716-E5F866F0FE2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13D-970D-4F7A-95C9-BC005EE753C1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C2F606C1-7C4E-4ACA-BA70-D4EA2158D0E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289CEC25-9F2B-4A84-B949-00926BAF10E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993600" y="754200"/>
            <a:ext cx="4805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DE82-243E-4610-B498-B0EE6AB2D5DC}" type="slidenum">
              <a:rPr b="0" lang="it-IT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846600" y="942804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DC355CB4-ACB9-488D-9B1D-0184ABEC8A3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3846600" y="942804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7B832B79-CB9E-49E9-936C-D05A4D381F1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95400" y="754200"/>
            <a:ext cx="479880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AD7-A97C-40DC-B479-7F37BD6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224-7386-4709-8C78-7AB7468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69D-973B-4BD9-A6F1-4CB0E62C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7B2-8F25-4AAA-859B-84D0C204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981-4268-4490-8A4B-E6BF9C02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E33-121F-4BB5-99D4-78D0C80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6C3-896F-4413-BA6E-EFD504B5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2A9-6C66-47BB-BD03-3798382F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DBC-487F-4736-9EB0-BA8CAE1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D1F-1775-47D8-BC9C-CB69801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BBF-2DD1-463E-82BC-9810668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463-BBD2-495B-88BF-6DA9FA4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F2BB-3146-4151-9A75-8BE249C3CAC8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2221-E416-449E-8840-FF5F564597B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Text Box 1"/>
          <p:cNvSpPr/>
          <p:nvPr/>
        </p:nvSpPr>
        <p:spPr>
          <a:xfrm>
            <a:off x="457200" y="272880"/>
            <a:ext cx="82202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rogetto Screening LILT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933720"/>
            <a:ext cx="82202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“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i scrive screening, si legge prevenzione”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65560" cy="12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18223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659640" y="1413000"/>
            <a:ext cx="1800000" cy="143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go%20regione%20rgb_"/>
          <p:cNvPicPr/>
          <p:nvPr/>
        </p:nvPicPr>
        <p:blipFill>
          <a:blip r:embed="rId4"/>
          <a:stretch/>
        </p:blipFill>
        <p:spPr>
          <a:xfrm>
            <a:off x="971640" y="1700280"/>
            <a:ext cx="1584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531-925D-4E65-8DCB-1FFF8C7F3EA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mammograf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50-69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00000" y="1916280"/>
            <a:ext cx="806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3 % (97.5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65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5067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415-C62B-4F7B-B5DD-6147F48E9E16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604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032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0399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AA5-E3FE-4EE9-A496-418D5309528F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itologico</a:t>
            </a:r>
            <a:r>
              <a:rPr b="0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donne 25-6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4 % (192.000 don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56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6864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562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1E1-7CB1-4DD1-951A-E0F7E711DC3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345440" cy="501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4772160" y="3429000"/>
            <a:ext cx="379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E5B2-F5C6-4942-95BC-52BACEE2190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Dati di partenz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99"/>
                </a:solidFill>
                <a:uFillTx/>
                <a:latin typeface="Verdana"/>
              </a:rPr>
              <a:t>Screening colorettale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(popolazione 50-74 an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84464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90 % (254.000 persone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artecipazione (adesione all’invito) </a:t>
            </a:r>
            <a:r>
              <a:rPr b="0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4 %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195640" y="3284640"/>
            <a:ext cx="45352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8AE7-FCD2-40B1-848D-0D4583E518E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3640" cy="360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3921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734-4359-486A-A874-7DD839FBA7FB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" y="272880"/>
            <a:ext cx="822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artn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58920" y="1628640"/>
            <a:ext cx="6769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creening,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Italiano Screening Mammografico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ruppo Oncologico Meridiona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Senologia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Oncologia Med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Associazione Italiana Radiologia Oncologic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Società Italiana Medici Generali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Europ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sservatorio Nazionale sulla Salute della Donn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......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87E-1909-4906-8869-09235E7849E0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57200" y="272880"/>
            <a:ext cx="82231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Finalità ed obiettiv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68360" y="1916280"/>
            <a:ext cx="8223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Garantire a tutti i cittadini accesso informato, partecipazione e qualità nei programmi di screen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creare un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dello integrato 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per la fruizione di percorsi </a:t>
            </a:r>
            <a:r>
              <a:rPr b="0" lang="it-IT" sz="2000" spc="-1" strike="noStrike" u="sng">
                <a:solidFill>
                  <a:srgbClr val="003399"/>
                </a:solidFill>
                <a:uFillTx/>
                <a:latin typeface="Verdana"/>
                <a:ea typeface="ＭＳ Ｐゴシック"/>
              </a:rPr>
              <a:t>informativi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 riguardanti la prevenzione 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monitorarne i processi di informazione e valutarne gli esit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68240" indent="-255600">
              <a:lnSpc>
                <a:spcPct val="94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diffondere strumenti per contribuire al miglioramento dell'adesion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94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Usare la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buona pratica della campagna nazionale del 2006,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 sperimentata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nel 2008</a:t>
            </a: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 per proporre Campagne Informative Regionali personalizzandole in base alle specifiche esigenze ed ai target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 algn="ctr">
              <a:lnSpc>
                <a:spcPct val="87000"/>
              </a:lnSpc>
              <a:spcAft>
                <a:spcPts val="1037"/>
              </a:spcAft>
              <a:tabLst>
                <a:tab algn="l" pos="0"/>
                <a:tab algn="l" pos="378000"/>
                <a:tab algn="l" pos="782640"/>
                <a:tab algn="l" pos="1190520"/>
                <a:tab algn="l" pos="1598760"/>
                <a:tab algn="l" pos="2006640"/>
                <a:tab algn="l" pos="2413080"/>
                <a:tab algn="l" pos="2820960"/>
                <a:tab algn="l" pos="3228840"/>
                <a:tab algn="l" pos="3635280"/>
                <a:tab algn="l" pos="4043520"/>
                <a:tab algn="l" pos="4451400"/>
                <a:tab algn="l" pos="4859280"/>
                <a:tab algn="l" pos="5265720"/>
                <a:tab algn="l" pos="5673600"/>
                <a:tab algn="l" pos="6081840"/>
                <a:tab algn="l" pos="6488280"/>
                <a:tab algn="l" pos="6896160"/>
                <a:tab algn="l" pos="7304040"/>
                <a:tab algn="l" pos="7711920"/>
                <a:tab algn="l" pos="8118360"/>
                <a:tab algn="l" pos="852660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44D-EE5F-4F43-BFD4-0C3329D394F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Text Box 1"/>
          <p:cNvSpPr/>
          <p:nvPr/>
        </p:nvSpPr>
        <p:spPr>
          <a:xfrm>
            <a:off x="457200" y="314280"/>
            <a:ext cx="8221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I passi del progett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4880"/>
            <a:ext cx="82216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  <a:ea typeface="ＭＳ Ｐゴシック"/>
              </a:rPr>
              <a:t>OBIETTIVO 1.1: Creare Cabine di Regia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1: Predisporre campagne informative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gionali per garantire la massim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pertura del target individuato 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romuovere l’importanza della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municazione nella prevenzione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ncologic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100000"/>
              </a:lnSpc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2.2: Diffondere i risultati attraverso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’organizzazione di convegni regionali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78000" indent="-282600">
              <a:lnSpc>
                <a:spcPct val="87000"/>
              </a:lnSpc>
              <a:spcAft>
                <a:spcPts val="1287"/>
              </a:spcAft>
              <a:tabLst>
                <a:tab algn="l" pos="0"/>
                <a:tab algn="l" pos="379440"/>
                <a:tab algn="l" pos="784080"/>
                <a:tab algn="l" pos="1192320"/>
                <a:tab algn="l" pos="1600200"/>
                <a:tab algn="l" pos="2006640"/>
                <a:tab algn="l" pos="2414520"/>
                <a:tab algn="l" pos="2822400"/>
                <a:tab algn="l" pos="3230640"/>
                <a:tab algn="l" pos="3637080"/>
                <a:tab algn="l" pos="4044960"/>
                <a:tab algn="l" pos="4452840"/>
                <a:tab algn="l" pos="4859280"/>
                <a:tab algn="l" pos="5267160"/>
                <a:tab algn="l" pos="5675400"/>
                <a:tab algn="l" pos="6083280"/>
                <a:tab algn="l" pos="6489720"/>
                <a:tab algn="l" pos="6897600"/>
                <a:tab algn="l" pos="7305840"/>
                <a:tab algn="l" pos="7711920"/>
                <a:tab algn="l" pos="8120160"/>
                <a:tab algn="l" pos="852804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F495-85B9-4F9B-BE28-1C44AE361DB6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PIANO NAZIONALE DELLA PREVENZIONE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2010 – 2012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4.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La prevenzione nella popolazione a rischio</a:t>
            </a:r>
            <a:br>
              <a:rPr sz="2000"/>
            </a:b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4.2 I tumori e gli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OBIETTIVI GENERALI DI SALUTE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Riduzione della mortalità per carcinoma della mammella,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Verdana"/>
              </a:rPr>
              <a:t>della cervice uterina e del carcinoma del colon-ret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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LINEE DI INTERVENTO</a:t>
            </a:r>
            <a:r>
              <a:rPr b="0" lang="it-IT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………</a:t>
            </a:r>
            <a:r>
              <a:rPr b="0" lang="it-IT" sz="18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Estensione dei programmi di screening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colorettale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Promozione del coinvolgimento dei soggetti fragili che non aderiscono ai programmi di screening oncologici </a:t>
            </a:r>
            <a:r>
              <a:rPr b="1" lang="it-IT" sz="2000" spc="-1" strike="noStrike" u="sng">
                <a:solidFill>
                  <a:srgbClr val="003399"/>
                </a:solidFill>
                <a:uFillTx/>
                <a:latin typeface="Verdana"/>
              </a:rPr>
              <a:t>(per lo screening mammografico e citologic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E07-28C0-4DAC-B8D6-44CE9D9D4B24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Obiettivo 1.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reazione della cabina di regia regionale attrave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dividuazione dei portatori di interes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efinizione del ruolo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Incontro con i portatori di interesse per la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costituzione della cabina di reg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Stato di avanzamento del progetto in Umbri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Azioni avvi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B2C-D036-4451-9F54-1EDD8206A252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7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Tavolo regionale coordinamento scree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sponsabili comunicazione Aziende US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ssociazion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rmaci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ci di Medicina Gener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ete oncologica region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Mediatori cultural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Individuazione dei portatori di interesse </a:t>
            </a:r>
            <a:br>
              <a:rPr sz="2400"/>
            </a:b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da coinvolge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AED4-B9D3-4B64-8AB3-008EFC7CDB6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Favorire e migliorare il processo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i comunicazione inter-istituzionale per</a:t>
            </a: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ridurre la quota di inappropriatezza e disequità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aumentare la partecipazione ai programmi di screening, soprattutto nelle fasce considerate deboli (immigrati, anziani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Verdana"/>
              </a:rPr>
              <a:t>Ruolo della cabina di regia reg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82DB-533C-44C3-90CA-3C6E8D4F5735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Verdana"/>
              </a:rPr>
              <a:t>Programmi di screening attivi in Umbr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mammografico e citologic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periodo 1997-200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Screening coloretta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Verdana"/>
              </a:rPr>
              <a:t>dal 2° semestre 200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472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80" name="Object 1024"/>
          <p:cNvGraphicFramePr/>
          <p:nvPr/>
        </p:nvGraphicFramePr>
        <p:xfrm>
          <a:off x="4859280" y="1773360"/>
          <a:ext cx="3527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3527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1403280" y="1268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Verdana"/>
              </a:rPr>
              <a:t>4 Aziende USL e 2 Aziende Ospedaliere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9:14Z</dcterms:created>
  <dc:creator>Regione dell'Umbria</dc:creator>
  <dc:description/>
  <dc:language>en-US</dc:language>
  <cp:lastModifiedBy>giuseppinamanuali</cp:lastModifiedBy>
  <dcterms:modified xsi:type="dcterms:W3CDTF">2011-07-05T14:13:15Z</dcterms:modified>
  <cp:revision>50</cp:revision>
  <dc:subject/>
  <dc:title>Incidenti domestici</dc:title>
</cp:coreProperties>
</file>